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5E0-9792-4DE8-AE21-17074096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804-A2BF-4D7A-86D8-DF6823D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2B1-A4F9-43AC-8B2C-96C4FCBB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E1F-4DF0-44CC-AC2B-33C49FD5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920-16A2-4194-975E-3F26831B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49F-F253-4A11-AF02-8F7236E9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A7E-1BC2-40D1-904B-CA5A19F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78F-388A-4073-B1EA-FDDFA07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68A-C3D7-4937-AA20-3CC16A40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657-3371-497F-99C0-2899410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ADF-0FE4-4D9D-8100-466B25F8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488-406F-486B-8B4F-87AD021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AF5-EB24-4421-9FBC-DC2B98A9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67453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6934320" cy="124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52880" y="15238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9:07Z</dcterms:created>
  <dc:creator>Graham</dc:creator>
  <dc:description/>
  <dc:language>en-US</dc:language>
  <cp:lastModifiedBy>Graham</cp:lastModifiedBy>
  <dcterms:modified xsi:type="dcterms:W3CDTF">2012-09-30T18:39:11Z</dcterms:modified>
  <cp:revision>1</cp:revision>
  <dc:subject/>
  <dc:title>Slide 1</dc:title>
</cp:coreProperties>
</file>